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6.gif" ContentType="image/gif"/>
  <Override PartName="/ppt/media/image24.gif" ContentType="image/gif"/>
  <Override PartName="/ppt/media/image23.gif" ContentType="image/gif"/>
  <Override PartName="/ppt/media/image17.gif" ContentType="image/gif"/>
  <Override PartName="/ppt/media/image27.jpeg" ContentType="image/jpeg"/>
  <Override PartName="/ppt/media/image16.gif" ContentType="image/gif"/>
  <Override PartName="/ppt/media/image14.gif" ContentType="image/gif"/>
  <Override PartName="/ppt/media/image21.gif" ContentType="image/gif"/>
  <Override PartName="/ppt/media/image19.gif" ContentType="image/gif"/>
  <Override PartName="/ppt/media/image41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10.png" ContentType="image/png"/>
  <Override PartName="/ppt/media/image30.gif" ContentType="image/gif"/>
  <Override PartName="/ppt/media/image33.png" ContentType="image/png"/>
  <Override PartName="/ppt/media/image40.gif" ContentType="image/gif"/>
  <Override PartName="/ppt/media/image38.gif" ContentType="image/gif"/>
  <Override PartName="/ppt/media/image12.png" ContentType="image/png"/>
  <Override PartName="/ppt/media/image32.gif" ContentType="image/gif"/>
  <Override PartName="/ppt/media/image3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36.png" ContentType="image/png"/>
  <Override PartName="/ppt/media/image39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6.jpeg" ContentType="image/jpeg"/>
  <Override PartName="/ppt/media/image25.gif" ContentType="image/gif"/>
  <Override PartName="/ppt/media/image4.jpeg" ContentType="image/jpeg"/>
  <Override PartName="/ppt/media/image22.gif" ContentType="image/gif"/>
  <Override PartName="/ppt/media/image28.wmf" ContentType="image/x-wmf"/>
  <Override PartName="/ppt/media/image37.jpeg" ContentType="image/jpeg"/>
  <Override PartName="/ppt/media/image3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976-6A8A-4CE1-8685-1FB085BE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D4B-8848-4B23-ABD0-93229073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88C-5303-40E7-870D-6E71EB67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436-E181-49D9-9A7D-B93EA7E3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21B-27CD-4CA7-8497-80531B73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87A-6B50-4B9D-9988-B549CE92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FF3-A7DA-4229-8E57-DA09FEF2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B47-1BB6-411F-B992-9DC849D3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DEC-61EC-4D17-80F2-F742DCB7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4A3-9A73-4C31-8911-903E7CC6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7CD-6C5B-4656-ABA2-DBB7A2F2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ED6-AAF1-4D34-BE46-564F2256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FC57-5904-4DDA-8305-9B134D7176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j.le365.com/zh_cn/play/yule/11023178/20041029/73423.html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13.xml"/><Relationship Id="rId3" Type="http://schemas.openxmlformats.org/officeDocument/2006/relationships/image" Target="../media/image17.gif"/><Relationship Id="rId4" Type="http://schemas.openxmlformats.org/officeDocument/2006/relationships/slide" Target="slide16.xml"/><Relationship Id="rId5" Type="http://schemas.openxmlformats.org/officeDocument/2006/relationships/image" Target="../media/image18.gif"/><Relationship Id="rId6" Type="http://schemas.openxmlformats.org/officeDocument/2006/relationships/slide" Target="slide11.xml"/><Relationship Id="rId7" Type="http://schemas.openxmlformats.org/officeDocument/2006/relationships/image" Target="../media/image19.gif"/><Relationship Id="rId8" Type="http://schemas.openxmlformats.org/officeDocument/2006/relationships/slide" Target="slide14.xml"/><Relationship Id="rId9" Type="http://schemas.openxmlformats.org/officeDocument/2006/relationships/image" Target="../media/image20.gif"/><Relationship Id="rId10" Type="http://schemas.openxmlformats.org/officeDocument/2006/relationships/slide" Target="slide17.xml"/><Relationship Id="rId11" Type="http://schemas.openxmlformats.org/officeDocument/2006/relationships/image" Target="../media/image21.gif"/><Relationship Id="rId12" Type="http://schemas.openxmlformats.org/officeDocument/2006/relationships/slide" Target="slide12.xml"/><Relationship Id="rId13" Type="http://schemas.openxmlformats.org/officeDocument/2006/relationships/image" Target="../media/image22.gif"/><Relationship Id="rId14" Type="http://schemas.openxmlformats.org/officeDocument/2006/relationships/slide" Target="slide15.xml"/><Relationship Id="rId15" Type="http://schemas.openxmlformats.org/officeDocument/2006/relationships/image" Target="../media/image23.gif"/><Relationship Id="rId16" Type="http://schemas.openxmlformats.org/officeDocument/2006/relationships/slide" Target="slide18.xml"/><Relationship Id="rId17" Type="http://schemas.openxmlformats.org/officeDocument/2006/relationships/image" Target="../media/image24.gif"/><Relationship Id="rId18" Type="http://schemas.openxmlformats.org/officeDocument/2006/relationships/image" Target="../media/image15.gi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24462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45435" t="0" r="0" b="26765"/>
          <a:stretch/>
        </p:blipFill>
        <p:spPr>
          <a:xfrm>
            <a:off x="2438280" y="1066680"/>
            <a:ext cx="2638440" cy="3810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5587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111640" cy="3335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2712960" cy="329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14600" y="1268280"/>
            <a:ext cx="4194000" cy="424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277812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515960"/>
            <a:ext cx="3886200" cy="3681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76520"/>
            <a:ext cx="545796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260280"/>
            <a:ext cx="842472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k your partner about his or her school tri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re did they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did they 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16000" y="1773360"/>
          <a:ext cx="6913440" cy="2774880"/>
        </p:xfrm>
        <a:graphic>
          <a:graphicData uri="http://schemas.openxmlformats.org/drawingml/2006/table">
            <a:tbl>
              <a:tblPr/>
              <a:tblGrid>
                <a:gridCol w="2230560"/>
                <a:gridCol w="2341440"/>
                <a:gridCol w="2341440"/>
              </a:tblGrid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am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nzh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nt to the 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24000" y="4653000"/>
            <a:ext cx="8564400" cy="159588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ere is our re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In my group,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eter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went 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o Wenzhou. He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went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to the zoo.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Tom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___________.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ike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_________. And I_________We  all had  great fun on the school trip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1952640" cy="1809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5048280"/>
            <a:ext cx="1952640" cy="180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732720" y="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Group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5333760" cy="331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5280" y="333360"/>
            <a:ext cx="83250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舒体"/>
              </a:rPr>
              <a:t>Unit 8 How was your school trip ?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164360" y="1700280"/>
            <a:ext cx="1655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华文彩云"/>
              </a:rPr>
              <a:t>Period  2</a:t>
            </a:r>
            <a:endParaRPr b="0" lang="en-US" sz="32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华文彩云"/>
              <a:ea typeface="华文彩云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566100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邹城八中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u  Hui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447920"/>
            <a:ext cx="6624720" cy="45259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f you’re  a reporter from CCTV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w you are going to interview the students in Class Eight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ow was your last t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d you go… ? /   Where did you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ere there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hat did you do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d you see…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d you buy a souven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rcRect l="15133" t="0" r="27432" b="18338"/>
          <a:stretch/>
        </p:blipFill>
        <p:spPr>
          <a:xfrm>
            <a:off x="7086600" y="3933720"/>
            <a:ext cx="2057400" cy="2924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24000" y="333360"/>
            <a:ext cx="54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CCTV's talk show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543800" y="30492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7280" cy="725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81080" y="15238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637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e a survey about what your friends or your parents did on the school trip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120" y="6324480"/>
            <a:ext cx="838188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300600" y="0"/>
            <a:ext cx="662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99"/>
                </a:solidFill>
                <a:latin typeface="Curlz MT"/>
              </a:rPr>
              <a:t>Thank you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2556000" cy="256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592360" cy="2637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19640" y="260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eat  ice 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3320" y="1468440"/>
            <a:ext cx="24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take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218120"/>
            <a:ext cx="39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go to the aqu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14320" y="2830680"/>
            <a:ext cx="31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go to the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637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252108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2700360" cy="273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03640" y="3068640"/>
            <a:ext cx="2519280" cy="273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89960" y="692280"/>
            <a:ext cx="26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ee some s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24160" y="17575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ee a 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4400" y="285264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uy a sou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34160" y="422100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ee some 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21765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411280" cy="234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37636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627280" y="2276640"/>
            <a:ext cx="2521080" cy="216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592360" cy="2421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627280" y="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50920" y="4365720"/>
            <a:ext cx="2340000" cy="2492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12000" y="268200"/>
            <a:ext cx="313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u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ay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e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187280" y="0"/>
            <a:ext cx="5410080" cy="1143000"/>
            <a:chOff x="1187280" y="0"/>
            <a:chExt cx="5410080" cy="1143000"/>
          </a:xfrm>
        </p:grpSpPr>
        <p:pic>
          <p:nvPicPr>
            <p:cNvPr id="71" name="" descr=""/>
            <p:cNvPicPr/>
            <p:nvPr/>
          </p:nvPicPr>
          <p:blipFill>
            <a:blip r:embed="rId1"/>
            <a:srcRect l="11387" t="7402" r="8859" b="22236"/>
            <a:stretch/>
          </p:blipFill>
          <p:spPr>
            <a:xfrm>
              <a:off x="1187280" y="0"/>
              <a:ext cx="54100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1358640" y="67320"/>
              <a:ext cx="49503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67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Academy Engraved LET"/>
                </a:rPr>
                <a:t>Let's listen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cademy Engraved LET"/>
                <a:ea typeface="Academy Engraved LET"/>
              </a:endParaRPr>
            </a:p>
          </p:txBody>
        </p:sp>
      </p:grpSp>
      <p:graphicFrame>
        <p:nvGraphicFramePr>
          <p:cNvPr id="73" name="ShockwaveFlash1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 and check(        )the questions you 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765000"/>
            <a:ext cx="6324840" cy="3665160"/>
          </a:xfrm>
          <a:prstGeom prst="rect">
            <a:avLst/>
          </a:prstGeom>
          <a:solidFill>
            <a:srgbClr val="99ccff">
              <a:alpha val="25000"/>
            </a:srgbClr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buy that ha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What else di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see any sha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in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at 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get h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utograph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Were there any se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take any pho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52080" t="2990" r="0" b="0"/>
          <a:stretch/>
        </p:blipFill>
        <p:spPr>
          <a:xfrm>
            <a:off x="755640" y="4781520"/>
            <a:ext cx="2736720" cy="207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52343" b="0"/>
          <a:stretch/>
        </p:blipFill>
        <p:spPr>
          <a:xfrm>
            <a:off x="5867280" y="4802040"/>
            <a:ext cx="2592360" cy="20559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276720" y="0"/>
            <a:ext cx="761040" cy="609120"/>
            <a:chOff x="3276720" y="0"/>
            <a:chExt cx="761040" cy="609120"/>
          </a:xfrm>
        </p:grpSpPr>
        <p:sp>
          <p:nvSpPr>
            <p:cNvPr id="80" name=""/>
            <p:cNvSpPr/>
            <p:nvPr/>
          </p:nvSpPr>
          <p:spPr>
            <a:xfrm>
              <a:off x="3276720" y="304560"/>
              <a:ext cx="15156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428280" y="0"/>
              <a:ext cx="609480" cy="609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627280" y="1196640"/>
            <a:ext cx="533160" cy="380520"/>
            <a:chOff x="2627280" y="1196640"/>
            <a:chExt cx="533160" cy="380520"/>
          </a:xfrm>
        </p:grpSpPr>
        <p:sp>
          <p:nvSpPr>
            <p:cNvPr id="83" name=""/>
            <p:cNvSpPr/>
            <p:nvPr/>
          </p:nvSpPr>
          <p:spPr>
            <a:xfrm>
              <a:off x="2627280" y="1387080"/>
              <a:ext cx="106200" cy="190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733480" y="1196640"/>
              <a:ext cx="426960" cy="38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627280" y="2276280"/>
            <a:ext cx="533160" cy="380520"/>
            <a:chOff x="2627280" y="2276280"/>
            <a:chExt cx="533160" cy="380520"/>
          </a:xfrm>
        </p:grpSpPr>
        <p:sp>
          <p:nvSpPr>
            <p:cNvPr id="86" name=""/>
            <p:cNvSpPr/>
            <p:nvPr/>
          </p:nvSpPr>
          <p:spPr>
            <a:xfrm>
              <a:off x="2627280" y="2466720"/>
              <a:ext cx="106200" cy="190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733480" y="2276280"/>
              <a:ext cx="426960" cy="38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556000" y="2852640"/>
            <a:ext cx="532800" cy="380880"/>
            <a:chOff x="2556000" y="2852640"/>
            <a:chExt cx="532800" cy="380880"/>
          </a:xfrm>
        </p:grpSpPr>
        <p:sp>
          <p:nvSpPr>
            <p:cNvPr id="89" name=""/>
            <p:cNvSpPr/>
            <p:nvPr/>
          </p:nvSpPr>
          <p:spPr>
            <a:xfrm>
              <a:off x="2556000" y="3043080"/>
              <a:ext cx="106200" cy="190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662200" y="2852640"/>
              <a:ext cx="42660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flipH="1">
            <a:off x="179280" y="549360"/>
            <a:ext cx="19432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15920"/>
            <a:ext cx="1325520" cy="806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10152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en again and circle “T” (true) or “F ” (fal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413000"/>
            <a:ext cx="80629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na met a famous actor.                 T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 Tina got Jake Dean’s aut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. Toby won a prize.                              T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. Tina won a ha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. There were many actors at the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quarium.                                           T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720" y="1341360"/>
            <a:ext cx="72216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2565360"/>
            <a:ext cx="72252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3213000"/>
            <a:ext cx="72216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51640" y="4437000"/>
            <a:ext cx="72252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6360" y="5661000"/>
            <a:ext cx="72216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6370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na took Jake Dean’s ph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437000"/>
            <a:ext cx="43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na bought a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57340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 only saw J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567640" y="4797360"/>
            <a:ext cx="57636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137160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205740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1680" y="20574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523880" y="3657600"/>
            <a:ext cx="1371600" cy="70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91120" y="3581280"/>
            <a:ext cx="1371600" cy="70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781680" y="358128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447920" y="5181480"/>
            <a:ext cx="1447560" cy="70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267080" y="5181480"/>
            <a:ext cx="1295640" cy="70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858000" y="5105520"/>
            <a:ext cx="1219320" cy="76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00" y="981000"/>
            <a:ext cx="491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id you  _______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hat did you do on you school tr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9750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Guessing Game</a:t>
            </a:r>
            <a:endParaRPr b="0" lang="en-US" sz="3200" spc="1" strike="noStrike">
              <a:ln w="12600">
                <a:solidFill>
                  <a:srgbClr val="ff66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8"/>
          <a:stretch/>
        </p:blipFill>
        <p:spPr>
          <a:xfrm>
            <a:off x="179280" y="4457880"/>
            <a:ext cx="5763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07:45:51Z</dcterms:created>
  <dc:creator>MC SYSTEM</dc:creator>
  <dc:description/>
  <dc:language>en-US</dc:language>
  <cp:lastModifiedBy>MC SYSTEM</cp:lastModifiedBy>
  <dcterms:modified xsi:type="dcterms:W3CDTF">2005-11-22T07:56:39Z</dcterms:modified>
  <cp:revision>28</cp:revision>
  <dc:subject/>
  <dc:title>幻灯片 1</dc:title>
</cp:coreProperties>
</file>